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0C53-B40E-4C4B-9BCD-639DAA30B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2D9F-C561-4E40-8597-B3496AD8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DD358-A287-477C-B4B5-190BB882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50C9E-765A-4CAC-BC22-D674B6E6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803E31-1CE3-4E30-AC29-6C798055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DB066-AC7B-4738-9307-E82F672D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68856-890E-4A65-AFF1-DC43F9DC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0921E-21A9-487F-A1FE-2670C1B4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FBFE8-CBF8-451C-8EC0-C62BE343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7703F-2C5A-47C5-8C10-2E9C2E4D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EB03B-B07C-4C58-9F6A-2C6A1D7F9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E24390-D561-4CBE-8673-8D484A7AE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BB9F-B7BC-408F-99E0-F3AD237C8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E297A-810D-4456-868C-EE0DE481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99801D-BCCE-4C44-A0DE-CEDE0642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6B319-648B-4D39-A50B-A2A25C50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93D69-8771-41EB-A57A-8E3F6CFB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F9377B-82A5-4E97-9A64-B7F1E291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F8D7A0-2DF1-4062-BDAB-C561DBCD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0D143-3453-487C-B9F1-15217103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36BF1-BFF3-4F65-A303-E58B0A62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DC41C6-CEAC-4FCF-BB8D-6B0A02BE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DA68A-4DD2-480F-B31F-B381DDE6E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FBD2-5290-490B-AA73-0BCC6FCDB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C8031F-5A66-4671-A269-C6681A2EB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1264-D025-44E0-968D-F4F4665C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F882-2504-4760-A362-6A57FBFB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1353-1C2F-494B-80C3-148B0C40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74BA-6957-4CD0-8839-1E2E4343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5F1E-535C-4473-918A-18843A01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A155-2210-48A6-BDB5-23545DEE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4634-E381-4F96-882E-AB90D899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4DE4-54E3-4DBC-A8C9-CE284A04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AF50-B6C3-4E61-B5DB-EEBAABD6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0AB8-A52B-494B-B596-EE5DA325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F2C3-AF8E-4A58-9CDE-2517BC6F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867C-76D3-4238-A570-B0EBB96F0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C821-DE3B-44A7-9A48-F6128227D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5D53F-053E-493F-ADA8-24578D061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EF7B0-FD21-4F9B-8949-5F6D1203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3BE74-B4BE-4A09-B90E-23811EFD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BAFF3-D894-498F-9DB9-6F1044AA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A1E34-E820-488F-9ED8-0491F58C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73D8-6FA8-415E-AF8E-E652AEE7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8FCF5-66DE-4C06-AD6A-61A17F33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2A2DD-FAB5-45AE-809F-DDC5DC28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724FD-4D21-4A2E-A2A7-AF23292F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67945-E90F-40CC-BC37-76B730D1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3E9A1-DD1B-44CD-AB76-AA1EA316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3DD6F-3524-4773-842F-7C2766CCD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B55AD-508B-466E-839F-3C992BFEE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55D04-A2F7-4376-9596-9A0F0E958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A0947-0C39-42DB-9D77-DB3BF8BE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5E8A9-0BC8-48B9-86A9-92033237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AC70-6936-4B4F-936C-0001D47D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0DC70-AD28-486D-A281-43F7CC36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52F63-A06B-4AAE-BEB1-CE069CCA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CCDCD-B3BD-4D81-BE49-96C8547A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2AB3D-CF40-4589-80B6-CB46B77C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CC7B0-A261-4ADF-BBAF-43517C04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A9530-07EA-45C7-9E4C-077304F5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54D7D-38F1-42F5-AF40-3E45B42E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7A906-F40F-4F84-BB01-E58E551CA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6FE54-AF62-4ED3-B8D1-D8321DA43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DBE50-C167-4B83-8867-AE0962578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1EE0-7AF7-4E58-959B-D2FA2662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BA9EE-377E-4CDF-97B0-6ADA6E78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FEB2D-F3B7-4F5C-B9F3-F4655A07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33836-0FE7-416C-B1E4-19BAC59F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3E65B-65ED-4AB4-B26A-6371AF91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D3F87-6D2D-4E6F-8939-32992EEE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CAF8C-C9D1-4CE8-ADB9-611C8DB3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E2DE0-8E6E-4FCA-B044-55B4800A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2FCCC-DF7B-41AD-B786-FFF14DE7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21E12-7EB0-4455-88E7-5B7FB228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AA58D-9C59-4E7C-B77A-3EA4C3F74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FCC7-B9D1-4354-9258-CA3A5092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003B9-D37D-4088-BEC0-28C28FD9A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E84B2-1A72-42AA-ACE2-7A933923A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E6291-0CCA-4855-B836-FF56AB85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66D75-F689-4E58-B849-89B2B7DE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1AE06-30C4-4F8E-AAAC-7FA86C01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78381-E551-475A-BE78-87AC647C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DF013-04F6-40CE-BE07-A9B4787D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8B446-BD37-4415-8EA4-9D67A461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112F8-06A3-46DD-8012-9237D9FB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AE054-69D9-4D66-94AD-0A8669BD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9682-2EFD-4CAC-B0D5-07D0B4A9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21EC6-26AC-4C4E-B7E4-2C6C23E9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E076F-3143-47AF-9ABC-F9FB20EDF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3C19C-77D4-4337-A37E-90F6670BD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67FA6-3048-4BA8-AD9E-69C7B3F0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7A3A3-AA3F-4058-9119-8C809A4A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82BFE-36AB-4ABD-BC8A-5C6CA5F9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D5B02-8045-49C4-8F5F-428151E6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CDAAA-C541-4B9F-A504-D0BB99F1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3E146-285C-44D7-954F-6582AE12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B3FD0-8EA0-46D0-9042-425320D6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72EF-6AF3-42C1-A22C-F9CDE85A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FA238-FAC2-477C-9081-E934FA64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6D0C0-81F8-4BEA-B2E3-1E4FE0A8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B4293-DB46-4CEF-B352-EE7C19FD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7146C-53FE-4840-988F-8637C419D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FFC2E-0EB8-44FB-A4CA-957348A9A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D0D34-AB43-45B2-B6DB-ED21CBF7C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7B195-0C5F-4883-95FE-1A26512C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ED2DC-2D45-4125-A0B2-B721A223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3333C-E34F-4320-95C7-5587A8EE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03398-3855-45CA-B53E-35599B23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4D75-43F0-43FB-A63E-951BA454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80962-6AE0-4CBA-A1F0-7CF5D30F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F1F04-4C76-46F2-BF96-675C7E53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E0AEC-EDB7-459C-AA29-58F7846C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F6526-BF83-4C73-A5B8-9C9F66F9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B28EE-E67D-477A-A6FD-6EE98FAB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CE784-04C4-4778-B14B-24A4A3958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3738E-9603-4FD9-9809-5DF77D350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083FB-D0C7-4A7F-BF26-CD7F2B5DE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0A47C-D830-4BDE-BF6E-C6AEF4E6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AE8EB-2589-4719-8DCE-CBDFEA87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3E4F-09FE-4588-8B66-A8026EA5D9D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EC33-9FED-4912-BC8E-63AFB3D048E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1EA2-D2E8-4D6B-8007-B2954B0AC00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F9C2-45B5-4B39-A42F-8D534B6E1E0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0837-3427-447A-B066-1A81DC5FFB8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493E-7931-4BBA-9B53-1251F76C141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6F68-D584-4551-B724-3E528BBBFCE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108E-275D-4E7F-AD3F-399B82C4460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F26D-60CB-403E-AD1B-BD3653EEB12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CEFE-4DD1-4854-B711-FCBF80BF99B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1PAd9rT2Waw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c0504d"/>
              </a:buClr>
              <a:buSzPct val="75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Consonants (</a:t>
            </a:r>
            <a:r>
              <a:rPr b="0" lang="ko-KR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닿소리</a:t>
            </a:r>
            <a:r>
              <a:rPr b="0" lang="en-US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) and vowels (</a:t>
            </a:r>
            <a:r>
              <a:rPr b="0" lang="ko-KR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홑소리</a:t>
            </a:r>
            <a:r>
              <a:rPr b="0" lang="en-US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Berlin Sans FB"/>
                <a:ea typeface="굴림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14consonant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ㄱ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g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ㄴ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n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ㄷ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d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ㄹ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l/r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ㅁ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m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ㅂ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b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ㅅ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s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ㅇ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-/ng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ㅈ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j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ㅊ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ch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ㅋ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k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ㅌ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t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ㅍ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p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ㅎ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h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10 vowel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ㅏ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a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ㅑ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ya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ㅓ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eo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ㅕ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yeo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ㅗ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o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ㅛ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yo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ㅜ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u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ㅠ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yu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ㅡ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eu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ㅣ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i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097280" indent="-2192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ㅑ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ㅕ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ㅛ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and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ㅠ 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are iotized ones of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ㅏ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ㅓ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ㅗ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and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ㅜ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respectively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5 double consonant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ㄲ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ㄸ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ㅃ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ㅆ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ㅉ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11 consonant cluster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ㄳ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ㄵ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ㄶ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ㄺ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ㄻ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ㄼ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ㄽ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ㄾ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ㄿ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ㅀ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ㅄ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11 diphthong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ㅐ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ㅒ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ㅔ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ㅖ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ㅘ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ㅙ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ㅚ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ㅝ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ㅞ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ㅟ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ㅢ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c0504d"/>
              </a:buClr>
              <a:buSzPct val="75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Berlin Sans FB"/>
                <a:ea typeface="굴림"/>
              </a:rPr>
              <a:t>Morpho-Syllabic Blocks</a:t>
            </a:r>
            <a:r>
              <a:rPr b="0" lang="en-US" sz="2200" spc="-1" strike="noStrike">
                <a:solidFill>
                  <a:srgbClr val="000000"/>
                </a:solidFill>
                <a:latin typeface="Berlin Sans FB"/>
                <a:ea typeface="굴림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The initial: consonants or double consonant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The medial: vowels (simple, combined (inlcuding diphthongs), iotized)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The final: consonants, double consonants, clustered consonant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HANGUL 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(Letters)</a:t>
            </a:r>
            <a:endParaRPr b="1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ore Reading Practi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여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고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미소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버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도토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허수아비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개미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메아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추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회의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빠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토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뻐꾸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서울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불고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그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선생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운동장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몫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앉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흙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젊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여덟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밟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없다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앉아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읽으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삶아서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rite your name, major, and address in Hangul as being pronounc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Assignmen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5" descr=""/>
          <p:cNvPicPr/>
          <p:nvPr/>
        </p:nvPicPr>
        <p:blipFill>
          <a:blip r:embed="rId1"/>
          <a:stretch/>
        </p:blipFill>
        <p:spPr>
          <a:xfrm>
            <a:off x="1332000" y="333360"/>
            <a:ext cx="2771640" cy="56959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4" descr=""/>
          <p:cNvPicPr/>
          <p:nvPr/>
        </p:nvPicPr>
        <p:blipFill>
          <a:blip r:embed="rId2"/>
          <a:stretch/>
        </p:blipFill>
        <p:spPr>
          <a:xfrm>
            <a:off x="4356000" y="2133720"/>
            <a:ext cx="4496040" cy="2295360"/>
          </a:xfrm>
          <a:prstGeom prst="rect">
            <a:avLst/>
          </a:prstGeom>
          <a:ln w="0">
            <a:noFill/>
          </a:ln>
        </p:spPr>
      </p:pic>
      <p:sp>
        <p:nvSpPr>
          <p:cNvPr id="499" name="직사각형 1"/>
          <p:cNvSpPr/>
          <p:nvPr/>
        </p:nvSpPr>
        <p:spPr>
          <a:xfrm>
            <a:off x="4515480" y="404640"/>
            <a:ext cx="237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http://en.wikipedia.org/wiki/Hang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5048280" cy="555300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1"/>
          <p:cNvSpPr/>
          <p:nvPr/>
        </p:nvSpPr>
        <p:spPr>
          <a:xfrm>
            <a:off x="826920" y="6091200"/>
            <a:ext cx="26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blog.daum.net/hl0824/144969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Picture 3" descr=""/>
          <p:cNvPicPr/>
          <p:nvPr/>
        </p:nvPicPr>
        <p:blipFill>
          <a:blip r:embed="rId2"/>
          <a:stretch/>
        </p:blipFill>
        <p:spPr>
          <a:xfrm>
            <a:off x="5189400" y="476280"/>
            <a:ext cx="3810240" cy="5191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"/>
          <p:cNvSpPr/>
          <p:nvPr/>
        </p:nvSpPr>
        <p:spPr>
          <a:xfrm>
            <a:off x="1116000" y="3032280"/>
            <a:ext cx="67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맑은 고딕"/>
                <a:hlinkClick r:id="rId1"/>
              </a:rPr>
              <a:t>http://www.youtube.com/watch?v=1PAd9rT2W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Box 2"/>
          <p:cNvSpPr/>
          <p:nvPr/>
        </p:nvSpPr>
        <p:spPr>
          <a:xfrm>
            <a:off x="1203120" y="177336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Introduction to Hang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0504d"/>
              </a:buClr>
              <a:buSzPct val="75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Letter Design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Consonants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Velar consonants (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아음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a-eum "molar sounds")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ㄱ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g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ㅋ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k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Coronal consonants (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설음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seoreum "lingual sounds"):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ㄴ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n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ㄷ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d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ㅌ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t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ㄹ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l/r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Bilabial consonants (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순음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suneum "labial sounds"):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ㅁ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m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ㅂ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b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ㅍ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p),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Sibilant consonants (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치음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chieum "dental sounds"):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ㅅ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s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ㅈ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j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ㅊ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ch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Dorsal consonants (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후음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hueum "throat sounds"):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ㅇ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-/ng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ㅎ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h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Vowel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All vowels can be represented by the combinations of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sun, sky, heaven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ㅡ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earth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ㅣ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humanbeings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Eg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ㅣ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+ •  =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ㅏ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,  • +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ㅡ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=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ㅗ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Simple vowel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425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Bright;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ㅏ 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425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Dark;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ㅓ 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eo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425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Neutral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ㅡ </a:t>
            </a:r>
            <a:r>
              <a:rPr b="0" i="1" lang="en-US" sz="1700" spc="-1" strike="noStrike">
                <a:solidFill>
                  <a:srgbClr val="000000"/>
                </a:solidFill>
                <a:latin typeface="Corbel"/>
                <a:ea typeface="굴림"/>
              </a:rPr>
              <a:t>ŭ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Compound vowel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425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ㅐㅔㅘ ㅙ ㅚ ㅝ ㅟ ㅞ 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,,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Iotized vowel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425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ㅑ ㅕ ㅛ ㅠ ㅒ ㅖ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0504d"/>
              </a:buClr>
              <a:buSzPct val="75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Berlin Sans FB"/>
                <a:ea typeface="굴림"/>
              </a:rPr>
              <a:t>Sorting order (South Korean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Initial-medial-final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ㄱ ㄲ ㄴ ㄷ ㄸ ㄹ ㅁ ㅂ ㅃ ㅅ ㅆ ㅇ ㅈ ㅉ ㅊ ㅋ ㅌ ㅍ ㅎ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ㅏ ㅐ ㅑ ㅒ ㅓ ㅔ ㅕ ㅖ ㅗ ㅘ ㅙ ㅚ ㅛ ㅜ ㅝ ㅞ ㅟ ㅠ ㅡ ㅢ ㅣ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none)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ㄱ ㄲ ㄳ ㄴ ㄵ ㄶ ㄷ ㄹ ㄺ ㄻ ㄼ ㄽ ㄾ ㄿ ㅀ ㅁ ㅂ ㅄ ㅅ ㅆ ㅇ ㅈ ㅊ ㅋ ㅌ ㅍ ㅎ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94920" y="404280"/>
            <a:ext cx="81104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tter nam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nsonan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755640" y="1628640"/>
          <a:ext cx="7561440" cy="1463760"/>
        </p:xfrm>
        <a:graphic>
          <a:graphicData uri="http://schemas.openxmlformats.org/drawingml/2006/table">
            <a:tbl>
              <a:tblPr/>
              <a:tblGrid>
                <a:gridCol w="1008000"/>
                <a:gridCol w="882720"/>
                <a:gridCol w="944640"/>
                <a:gridCol w="944640"/>
                <a:gridCol w="946080"/>
                <a:gridCol w="944640"/>
                <a:gridCol w="946080"/>
                <a:gridCol w="944640"/>
              </a:tblGrid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표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W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기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니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디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리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미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비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시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gi-ye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ni-e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i-g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i-e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mi-e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bi-e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i-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755640" y="3213000"/>
          <a:ext cx="7561440" cy="1463760"/>
        </p:xfrm>
        <a:graphic>
          <a:graphicData uri="http://schemas.openxmlformats.org/drawingml/2006/table">
            <a:tbl>
              <a:tblPr/>
              <a:tblGrid>
                <a:gridCol w="1008000"/>
                <a:gridCol w="882720"/>
                <a:gridCol w="944640"/>
                <a:gridCol w="944640"/>
                <a:gridCol w="946080"/>
                <a:gridCol w="944640"/>
                <a:gridCol w="946080"/>
                <a:gridCol w="944640"/>
              </a:tblGrid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표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W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이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지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치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키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티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피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히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-e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ji-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hi-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ki-eu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i-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i-e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hi-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755640" y="4797360"/>
          <a:ext cx="7561440" cy="1706760"/>
        </p:xfrm>
        <a:graphic>
          <a:graphicData uri="http://schemas.openxmlformats.org/drawingml/2006/table">
            <a:tbl>
              <a:tblPr/>
              <a:tblGrid>
                <a:gridCol w="1008000"/>
                <a:gridCol w="1257480"/>
                <a:gridCol w="1323720"/>
                <a:gridCol w="1324080"/>
                <a:gridCol w="1324080"/>
                <a:gridCol w="1324080"/>
              </a:tblGrid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표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W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쌍기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쌍디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쌍비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쌍시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쌍지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sang-giye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sang-dig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sang-bie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sang-si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sang-ji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Vowel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826920" y="2205000"/>
          <a:ext cx="7705800" cy="1755720"/>
        </p:xfrm>
        <a:graphic>
          <a:graphicData uri="http://schemas.openxmlformats.org/drawingml/2006/table">
            <a:tbl>
              <a:tblPr/>
              <a:tblGrid>
                <a:gridCol w="1224000"/>
                <a:gridCol w="462240"/>
                <a:gridCol w="669600"/>
                <a:gridCol w="668520"/>
                <a:gridCol w="668160"/>
                <a:gridCol w="669960"/>
                <a:gridCol w="668520"/>
                <a:gridCol w="668160"/>
                <a:gridCol w="668520"/>
                <a:gridCol w="669960"/>
                <a:gridCol w="668160"/>
              </a:tblGrid>
              <a:tr h="58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표기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W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e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nunciation Exampl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ㄱ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ㅏ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가  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ㄱ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ㅏ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ㄱ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각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ㄱ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ㅛ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ㅂ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ㅗ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ㅂ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ㅗ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ㅁ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봄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ㅇ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ㅘ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와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actice (on p. 13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가갸거겨고교구규그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나냐너녀노뇨누뉴느니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And so 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09-03T19:41:12Z</dcterms:modified>
  <cp:revision>84</cp:revision>
  <dc:subject/>
  <dc:title>KOREAN LANGUAGE</dc:title>
</cp:coreProperties>
</file>